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30B-BD01-4883-83A6-D9105A34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79F-FF14-4EA8-BD52-2DA9E6ED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B32-5D08-43CE-9AE9-C8416B12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89E-B6CE-4BF1-9D85-804E8CDC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042-D437-4C2C-B158-F6CA7F77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559-DE13-4C80-8115-BAA10A19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D027-2039-4333-9CDF-1D70CCEC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9CD-3C6B-4DEC-9378-AD000402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04C-A1B6-4BCC-A611-4196582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8170-76F5-4C6C-A3F6-5BE452F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923-A36A-4DD6-AE39-CCB7341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D044-D937-4AB9-AAFE-0D6BC1B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5408-24D7-439B-8738-7E098844F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-480348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08000" y="1989000"/>
            <a:ext cx="41054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ortugal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bon it is located on the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: Portugal is a contry located in southwestern europe on the iberian penins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:10,707,924(77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:Portugu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there:By car,by train,byboat,by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ing places to visit: A the roman of diana (Èvora)/the castle of guimarã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9:16:30Z</dcterms:created>
  <dc:creator>Guida</dc:creator>
  <dc:description/>
  <dc:language>en-US</dc:language>
  <cp:lastModifiedBy>Guida</cp:lastModifiedBy>
  <dcterms:modified xsi:type="dcterms:W3CDTF">2009-11-10T09:53:45Z</dcterms:modified>
  <cp:revision>2</cp:revision>
  <dc:subject/>
  <dc:title>Diapositivo 1</dc:title>
</cp:coreProperties>
</file>